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CHD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C417-AE07-40EC-9237-34017CED7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B534-BD27-4AB9-855E-F0AC0298D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526572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Header Placeholder 5"/>
          <p:cNvSpPr/>
          <p:nvPr/>
        </p:nvSpPr>
        <p:spPr>
          <a:xfrm>
            <a:off x="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CHD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B503-48FC-4B37-A6A4-4B9C33CC1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526572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Header Placeholder 5"/>
          <p:cNvSpPr/>
          <p:nvPr/>
        </p:nvSpPr>
        <p:spPr>
          <a:xfrm>
            <a:off x="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CHD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F4B-99ED-4777-AA38-F29F884D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467-B82C-41AF-94D7-0FF4BD65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95E-BDCE-45E6-9F92-FE9FA337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951-DC3F-4F09-858E-C5BD9AEC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DBF-F6DB-4907-A1C4-DF435938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7A3-242A-4946-935F-C5E69CDA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31E-8EB9-4169-8C84-9368C319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D4E-9069-4E61-83B3-FB556323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E17-2D66-48E1-B1FF-F7AFE521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561-FE29-4845-81D2-D5297D5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F64-60D2-4FF7-A69C-B98CEE6C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19B-2E0F-4406-8AC3-AC709E76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F1C4-76D6-426E-BA72-248773EA8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grayscl/>
          </a:blip>
          <a:srcRect l="7701" t="39459" r="3844" b="33906"/>
          <a:stretch/>
        </p:blipFill>
        <p:spPr>
          <a:xfrm>
            <a:off x="152280" y="5181480"/>
            <a:ext cx="8991720" cy="1495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752480" y="1143000"/>
            <a:ext cx="54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Noticing Growth and Change in Our Learner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lk in Groups of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ow do we/how have we in congregational education figured out, either formally or informally, what our learners are learning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If. . .then. . 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f we use new approaches to learning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n we also need to use new approaches to assessing learn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need to think about what small goals our learners need to achieve in order to reach our priority go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need evidence that they are learning and growing in that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Program Files\Microsoft Office\MEDIA\CAGCAT10\j0293844.wmf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19320" y="914400"/>
            <a:ext cx="66294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2971800" y="533520"/>
            <a:ext cx="3200400" cy="6858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ority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4419720" y="1295280"/>
            <a:ext cx="399960" cy="335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514600" y="1676520"/>
            <a:ext cx="4038480" cy="106668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or Create 4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04920" y="3733920"/>
            <a:ext cx="2133360" cy="9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KNOW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7"/>
          <p:cNvSpPr/>
          <p:nvPr/>
        </p:nvSpPr>
        <p:spPr>
          <a:xfrm>
            <a:off x="2514600" y="3733920"/>
            <a:ext cx="2133720" cy="9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DO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6"/>
          <p:cNvSpPr/>
          <p:nvPr/>
        </p:nvSpPr>
        <p:spPr>
          <a:xfrm>
            <a:off x="4648320" y="3657600"/>
            <a:ext cx="2133360" cy="9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ELIEV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48"/>
          <p:cNvSpPr/>
          <p:nvPr/>
        </p:nvSpPr>
        <p:spPr>
          <a:xfrm>
            <a:off x="6858000" y="3657600"/>
            <a:ext cx="2133720" cy="9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ELONG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42"/>
          <p:cNvSpPr/>
          <p:nvPr/>
        </p:nvSpPr>
        <p:spPr>
          <a:xfrm flipV="1">
            <a:off x="1523880" y="2819520"/>
            <a:ext cx="167652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44"/>
          <p:cNvSpPr/>
          <p:nvPr/>
        </p:nvSpPr>
        <p:spPr>
          <a:xfrm flipV="1">
            <a:off x="3580560" y="2743200"/>
            <a:ext cx="762120" cy="99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46"/>
          <p:cNvSpPr/>
          <p:nvPr/>
        </p:nvSpPr>
        <p:spPr>
          <a:xfrm flipH="1" flipV="1">
            <a:off x="5257800" y="2819520"/>
            <a:ext cx="45720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48"/>
          <p:cNvSpPr/>
          <p:nvPr/>
        </p:nvSpPr>
        <p:spPr>
          <a:xfrm flipH="1" flipV="1">
            <a:off x="6172200" y="2743200"/>
            <a:ext cx="175248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9"/>
          <p:cNvSpPr/>
          <p:nvPr/>
        </p:nvSpPr>
        <p:spPr>
          <a:xfrm>
            <a:off x="1523880" y="54100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ME TARGETS ALL Y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 of Noticing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ognizes dilemmas faced by biblical characters in daily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resses a sense of  responsibility to help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kes leadership roles in Jewish communal celeb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gages in Jewish prayers and rituals at h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 Tas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ich of these noticing targets strikes you as particularly meaningful or important in connection to your priority goal as your congregation has begun to understand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17:27Z</dcterms:created>
  <dc:creator> </dc:creator>
  <dc:description/>
  <dc:language>en-US</dc:language>
  <cp:lastModifiedBy>marxa</cp:lastModifiedBy>
  <dcterms:modified xsi:type="dcterms:W3CDTF">2009-11-12T17:09:20Z</dcterms:modified>
  <cp:revision>9</cp:revision>
  <dc:subject/>
  <dc:title>Slide 1</dc:title>
</cp:coreProperties>
</file>